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2581-809C-4AA4-AF28-C1563111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CFC4-03C0-4021-A898-B7E82EB1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A8B5-DEE0-46F8-8E29-A227B98F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B845-7A17-4418-961D-145A3755C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4F35-70B9-44BC-8005-9085BFC8E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199E-4659-454D-A5B7-02229465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B660-3379-481D-A249-0F9FF76D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6BA9-04E2-4235-8797-93BF23D8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5B19-5534-4238-A8CA-30F75A28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0846-0749-4C61-963B-5A35D355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9951-8858-4CDE-B224-D5F4F08D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EA33-8934-4F9D-B754-C9D67569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7DD8-4CF0-4DEE-8B61-CA587AF0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9C62-0D9C-41FD-A6C5-8594236F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51B9-FD7C-4D4B-8E43-2BD43CC0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3DD4-F10C-4D1C-8070-0D7A4B5B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1E1C-B80C-4F97-BD2F-E27FFBA50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BE3A-779F-4CFE-9A13-A1F48A20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DEEC-E5EE-4A65-BADA-13FF8598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3998-4D83-4550-A770-7B4459CE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89AD-3636-495C-981C-9D396915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AE3F-528A-4C25-AE7F-D6842FF8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710D-46A8-4AC0-AF1F-450322A9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158D-CE0B-4729-8F14-2A952ACF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EE0A-32CE-4F6A-BF24-49E3BC68DDE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5ABA-E655-4123-9A61-F991FA26CC2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800" spc="-1" strike="noStrike">
                <a:solidFill>
                  <a:srgbClr val="cc3300"/>
                </a:solidFill>
                <a:latin typeface="Garamond"/>
              </a:rPr>
              <a:t>CHAPITRE I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Verdana"/>
              </a:rPr>
              <a:t>Seconde part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Verdana"/>
              </a:rPr>
              <a:t>(11/10/06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cc3300"/>
                </a:solidFill>
                <a:latin typeface="Garamond"/>
              </a:rPr>
              <a:t>Erwin GOFFMAN</a:t>
            </a:r>
            <a:r>
              <a:rPr b="0" lang="fr-BE" sz="4400" spc="-1" strike="noStrike">
                <a:solidFill>
                  <a:srgbClr val="cc3300"/>
                </a:solidFill>
                <a:latin typeface="Garamond"/>
              </a:rPr>
              <a:t> (1922-1982)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La mise en scène de la vie quotidienne. Interactionnisme symbolique appliqué à la vie quotidienn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Stigmate. Analyse les interactions entre personnes « normales » et « stigmatisées ». </a:t>
            </a:r>
            <a:r>
              <a:rPr b="0" lang="fr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 Becke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Asiles. Organisations totalitaires. Adaptations secondair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cc3300"/>
                </a:solidFill>
                <a:latin typeface="Garamond"/>
              </a:rPr>
              <a:t>Howard BECKER</a:t>
            </a:r>
            <a:r>
              <a:rPr b="0" lang="fr-BE" sz="4000" spc="-1" strike="noStrike">
                <a:solidFill>
                  <a:srgbClr val="cc3300"/>
                </a:solidFill>
                <a:latin typeface="Garamond"/>
              </a:rPr>
              <a:t> (1928- )</a:t>
            </a:r>
            <a:br>
              <a:rPr sz="4000"/>
            </a:br>
            <a:r>
              <a:rPr b="0" lang="fr-BE" sz="4000" spc="-1" strike="noStrike">
                <a:solidFill>
                  <a:srgbClr val="cc3300"/>
                </a:solidFill>
                <a:latin typeface="Garamond"/>
              </a:rPr>
              <a:t>Outsiders (1963)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Renouvellement de l’approche de la dévianc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Ce ne sont pas les motivations déviantes qui produisent le comportement déviant mais l’invers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On ne naît pas déviant, on le devient mais pas uniquement sur la base de nos actes et nos caractéristiques personnelles. Il faut aussi qu’on soit catalogué comme tel par les autr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Méthodologie : approche compréhensive, immersion, observations directes, interview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cc3300"/>
                </a:solidFill>
                <a:latin typeface="Garamond"/>
              </a:rPr>
              <a:t>Anselm STRAUSS</a:t>
            </a:r>
            <a:r>
              <a:rPr b="0" lang="fr-BE" sz="4000" spc="-1" strike="noStrike">
                <a:solidFill>
                  <a:srgbClr val="cc3300"/>
                </a:solidFill>
                <a:latin typeface="Garamond"/>
              </a:rPr>
              <a:t> (1916-1996)</a:t>
            </a:r>
            <a:br>
              <a:rPr sz="4000"/>
            </a:br>
            <a:r>
              <a:rPr b="0" lang="fr-BE" sz="4000" spc="-1" strike="noStrike">
                <a:solidFill>
                  <a:srgbClr val="cc3300"/>
                </a:solidFill>
                <a:latin typeface="Garamond"/>
              </a:rPr>
              <a:t>Grounded Theory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Grounded Theor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3 id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Le but de la recherche en sociologie : théo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Pas de théorie préexistante à la recherche. La recherche produit la théorie. Logique indu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Les concepts à l’origine des théories apparaissent avec la récolte des donné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cc3300"/>
                </a:solidFill>
                <a:latin typeface="Garamond"/>
              </a:rPr>
              <a:t>Apports méthodologiques de la «seconde école» de Chicago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Développement d’une réflexion méthodologique sur l’approche qualitative et légitim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Correspondance entre la vision sociologique de la société et la méth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Question du statut des énoncés théoriques: confrontation avec les acteu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cc3300"/>
                </a:solidFill>
                <a:latin typeface="Garamond"/>
              </a:rPr>
              <a:t>Harold GARFINKEL</a:t>
            </a:r>
            <a:br>
              <a:rPr sz="4000"/>
            </a:br>
            <a:r>
              <a:rPr b="0" lang="fr-BE" sz="4000" spc="-1" strike="noStrike">
                <a:solidFill>
                  <a:srgbClr val="cc3300"/>
                </a:solidFill>
                <a:latin typeface="Garamond"/>
              </a:rPr>
              <a:t>L’ethnométhodologi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  <a:ea typeface="宋体"/>
              </a:rPr>
              <a:t>La recherche empirique des méthodes que les individus utilisent pour donner sens et en même temps accomplir leurs actions de la vie quotidienn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  <a:ea typeface="宋体"/>
              </a:rPr>
              <a:t>Critique du structuralisme et du fonctionnalisme. Intérêt pour le changement social et le processus Vs la stabilité et les modèles comportementaux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  <a:ea typeface="宋体"/>
              </a:rPr>
              <a:t>Importance des compétences de l’acteur et de sa subjectivité (</a:t>
            </a:r>
            <a:r>
              <a:rPr b="1" lang="fr-BE" sz="2400" spc="-1" strike="noStrike">
                <a:solidFill>
                  <a:srgbClr val="000000"/>
                </a:solidFill>
                <a:latin typeface="Verdana"/>
                <a:ea typeface="宋体"/>
              </a:rPr>
              <a:t>idiots culturels</a:t>
            </a:r>
            <a:r>
              <a:rPr b="0" lang="fr-BE" sz="2400" spc="-1" strike="noStrike">
                <a:solidFill>
                  <a:srgbClr val="000000"/>
                </a:solidFill>
                <a:latin typeface="Verdana"/>
                <a:ea typeface="宋体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  <a:ea typeface="宋体"/>
              </a:rPr>
              <a:t>Approche compréhensive dans le cadre de démarches qualita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cc3300"/>
                </a:solidFill>
                <a:latin typeface="Garamond"/>
              </a:rPr>
              <a:t>L’ethnométhodologie</a:t>
            </a:r>
            <a:r>
              <a:rPr b="0" lang="fr-BE" sz="4000" spc="-1" strike="noStrike">
                <a:solidFill>
                  <a:srgbClr val="cc3300"/>
                </a:solidFill>
                <a:latin typeface="Garamond"/>
              </a:rPr>
              <a:t> : indexicalité et réflexivité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Verdana"/>
              </a:rPr>
              <a:t>Indexicalité</a:t>
            </a: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 – Incomplétude culturelle. Importance des ressources des acteurs et données contextuelles pour reconstruire le sens d’une interac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Verdana"/>
              </a:rPr>
              <a:t>Réflexivité</a:t>
            </a: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 : décrire une interaction c’est la construir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cc3300"/>
                </a:solidFill>
                <a:latin typeface="Garamond"/>
              </a:rPr>
              <a:t>Ethnométhodologie</a:t>
            </a:r>
            <a:r>
              <a:rPr b="0" lang="fr-BE" sz="4000" spc="-1" strike="noStrike">
                <a:solidFill>
                  <a:srgbClr val="cc3300"/>
                </a:solidFill>
                <a:latin typeface="Garamond"/>
              </a:rPr>
              <a:t> : Méthode documentaire d’interprétation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Méthode documentaire d’interpré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L’expérience de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L’importance pour les techniques d’intervi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cc3300"/>
                </a:solidFill>
                <a:latin typeface="Garamond"/>
              </a:rPr>
              <a:t>Ethnométhodologie </a:t>
            </a:r>
            <a:r>
              <a:rPr b="0" lang="fr-BE" sz="4000" spc="-1" strike="noStrike">
                <a:solidFill>
                  <a:srgbClr val="cc3300"/>
                </a:solidFill>
                <a:latin typeface="Garamond"/>
              </a:rPr>
              <a:t>: Analyse des conversations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000000"/>
                </a:solidFill>
                <a:uFillTx/>
                <a:latin typeface="Verdana"/>
              </a:rPr>
              <a:t>Le mari</a:t>
            </a: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 :</a:t>
            </a:r>
            <a:r>
              <a:rPr b="0" i="1" lang="fr-BE" sz="2400" spc="-1" strike="noStrike">
                <a:solidFill>
                  <a:srgbClr val="000000"/>
                </a:solidFill>
                <a:latin typeface="Verdana"/>
              </a:rPr>
              <a:t> Dana a réussi à mettre une pièce dans le parcmètre aujourd’hui sans que je ne la soulè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000000"/>
                </a:solidFill>
                <a:uFillTx/>
                <a:latin typeface="Verdana"/>
              </a:rPr>
              <a:t>Epouse </a:t>
            </a: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i="1" lang="fr-BE" sz="2400" spc="-1" strike="noStrike">
                <a:solidFill>
                  <a:srgbClr val="000000"/>
                </a:solidFill>
                <a:latin typeface="Verdana"/>
              </a:rPr>
              <a:t> tu l’as emmenée au magasin de disque 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000000"/>
                </a:solidFill>
                <a:uFillTx/>
                <a:latin typeface="Verdana"/>
              </a:rPr>
              <a:t>Le mari </a:t>
            </a: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i="1" lang="fr-BE" sz="2400" spc="-1" strike="noStrike">
                <a:solidFill>
                  <a:srgbClr val="000000"/>
                </a:solidFill>
                <a:latin typeface="Verdana"/>
              </a:rPr>
              <a:t> non, chez le cordonni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000000"/>
                </a:solidFill>
                <a:uFillTx/>
                <a:latin typeface="Verdana"/>
              </a:rPr>
              <a:t>Epouse </a:t>
            </a: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i="1" lang="fr-BE" sz="2400" spc="-1" strike="noStrike">
                <a:solidFill>
                  <a:srgbClr val="000000"/>
                </a:solidFill>
                <a:latin typeface="Verdana"/>
              </a:rPr>
              <a:t> pour quoi faire 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000000"/>
                </a:solidFill>
                <a:uFillTx/>
                <a:latin typeface="Verdana"/>
              </a:rPr>
              <a:t>Mari :</a:t>
            </a:r>
            <a:r>
              <a:rPr b="0" i="1" lang="fr-BE" sz="2400" spc="-1" strike="noStrike">
                <a:solidFill>
                  <a:srgbClr val="000000"/>
                </a:solidFill>
                <a:latin typeface="Verdana"/>
              </a:rPr>
              <a:t> j’ai acheté des lacets neufs pour mes chaussu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 u="sng">
                <a:solidFill>
                  <a:srgbClr val="000000"/>
                </a:solidFill>
                <a:uFillTx/>
                <a:latin typeface="Verdana"/>
              </a:rPr>
              <a:t>Epouse</a:t>
            </a:r>
            <a:r>
              <a:rPr b="0" i="1" lang="fr-BE" sz="24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i="1" lang="fr-BE" sz="2400" spc="-1" strike="noStrike">
                <a:solidFill>
                  <a:srgbClr val="000000"/>
                </a:solidFill>
                <a:latin typeface="Verdana"/>
              </a:rPr>
              <a:t> tes mocassins ont bien besoin de talons neufs.</a:t>
            </a: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cc3300"/>
                </a:solidFill>
                <a:latin typeface="Garamond"/>
              </a:rPr>
              <a:t>Ethnométhodologie</a:t>
            </a:r>
            <a:r>
              <a:rPr b="0" lang="fr-BE" sz="4400" spc="-1" strike="noStrike">
                <a:solidFill>
                  <a:srgbClr val="cc3300"/>
                </a:solidFill>
                <a:latin typeface="Garamond"/>
              </a:rPr>
              <a:t> : Breaching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Casser nos routines par provoc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Rupture dans la confiance à la base de l’ordre social. Faire scandale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cc3300"/>
                </a:solidFill>
                <a:latin typeface="Garamond"/>
              </a:rPr>
              <a:t>Les méthodes qualitatives en Franc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G. Friedman (Sociologie du travail), 50’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D. Bertaux (méthodes biographique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M. Pollak et l’expérience concentrationnaire, les Bourdieusie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Le retour de l’Acteur des années 80, l’individualisme </a:t>
            </a:r>
            <a:r>
              <a:rPr b="0" lang="fr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 sens des action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Tourra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Croz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nthropologie culturelle </a:t>
            </a:r>
            <a:br>
              <a:rPr sz="4000"/>
            </a:br>
            <a:r>
              <a:rPr b="1" lang="fr-BE" sz="4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ord-américaine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ologie comme anthropologie : étudier l’action humaine signifia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s anthropologie/ethnologie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rendre l’autre, l’exotique, le lointa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ant évolutionnis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e colonial et scientisme du XIX</a:t>
            </a:r>
            <a:r>
              <a:rPr b="0" lang="fr-BE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esurer, classer, répertorier </a:t>
            </a:r>
            <a:r>
              <a:rPr b="0" lang="fr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thropologie physiqu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mchair Anthropology”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Cf D.E. </a:t>
            </a:r>
            <a:r>
              <a:rPr b="1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kheim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.B. </a:t>
            </a:r>
            <a:r>
              <a:rPr b="1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ylor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ranz BOAS (1858-1942)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vertit à l’anthropologie après un séjour chez les Esquimaux de Baffi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RAINS : Kwakiutl, Chinok et Tsimshian (Colombie Britannique). Observations direc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différences entre les hommes sont davantage dues aux aspects culturels que racial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orislaw Malinowski</a:t>
            </a:r>
            <a:r>
              <a:rPr b="0" lang="fr-BE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(1884-1942)</a:t>
            </a:r>
            <a:br>
              <a:rPr sz="3200"/>
            </a:br>
            <a:r>
              <a:rPr b="0" lang="fr-BE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« </a:t>
            </a:r>
            <a:r>
              <a:rPr b="0" i="1" lang="fr-BE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Les Argonautes du Pacifique Occidental</a:t>
            </a:r>
            <a:r>
              <a:rPr b="0" lang="fr-BE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»</a:t>
            </a:r>
            <a:endParaRPr b="0" lang="en-US" sz="32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’origine du fonctionnalisme (cf. 3 postulat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ématisation du recours à la méthode ethnographique et observation participa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ègle de base : « </a:t>
            </a:r>
            <a:r>
              <a:rPr b="0" i="1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uper de la société des blancs et entrer dans la relation la plus étroite possible avec les indigènes, un idéal qui ne peut être atteint qu’en s’installant dans leur village</a:t>
            </a: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tations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inowski : Familiarité et inser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k : importance de l’anthropologie culturelle Nord-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cc3300"/>
                </a:solidFill>
                <a:latin typeface="Garamond"/>
              </a:rPr>
              <a:t>Comprendre l’altérité culturell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Apprentissage de la langue vernacul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Observation méticuleuse des faits de la vie quotidienne même les plus anodins ou insignifiant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L’anthropologue doit « rapporter non seulement le squelette de la société étudiée mais aussi ses ossements et sa chair »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cc3300"/>
                </a:solidFill>
                <a:latin typeface="Garamond"/>
              </a:rPr>
              <a:t>Margaret Mead</a:t>
            </a:r>
            <a:r>
              <a:rPr b="0" lang="fr-BE" sz="4400" spc="-1" strike="noStrike">
                <a:solidFill>
                  <a:srgbClr val="cc3300"/>
                </a:solidFill>
                <a:latin typeface="Garamond"/>
              </a:rPr>
              <a:t> (1901-1978)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Terrains : Nouvelle Guinée. Arapesh, Mundugomor, Chambuli. (Années 3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Personnalités masculines et féminines sont davantage des données culturelles que biologiques. Importance de la socialisation au sein d’un groupe culturel donné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Leçon : s’intégrer dans une société, un groupe, l’observer au quotidien, sortir de l’occidentalo-centrism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cc3300"/>
                </a:solidFill>
                <a:latin typeface="Garamond"/>
              </a:rPr>
              <a:t>La « seconde école » de Chicago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Réaction (ex. Blumer) des prétentions scientifiques des démarches quantitatives dominantes (40 et 50s) et volonté de dépasser les critiques de la sociologie empirique de la 1ère écol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Veine de l’anthropologie culturel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Veine critique. Changements méthodologiques au sein de l’approche qualitative </a:t>
            </a:r>
            <a:r>
              <a:rPr b="0" lang="fr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 Grounded the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cc3300"/>
                </a:solidFill>
                <a:latin typeface="Garamond"/>
              </a:rPr>
              <a:t>Everett HUGHES</a:t>
            </a:r>
            <a:r>
              <a:rPr b="0" lang="fr-BE" sz="4000" spc="-1" strike="noStrike">
                <a:solidFill>
                  <a:srgbClr val="cc3300"/>
                </a:solidFill>
                <a:latin typeface="Garamond"/>
              </a:rPr>
              <a:t> (1897-1953)</a:t>
            </a:r>
            <a:br>
              <a:rPr sz="4000"/>
            </a:br>
            <a:r>
              <a:rPr b="0" lang="fr-BE" sz="4000" spc="-1" strike="noStrike">
                <a:solidFill>
                  <a:srgbClr val="cc3300"/>
                </a:solidFill>
                <a:latin typeface="Garamond"/>
              </a:rPr>
              <a:t>« Boys in Withe » (1961)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Trois constats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Mode de rapport au terrain et capacité de récolte des donn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Qualité de l’observation et compréhension fine de l’univers symboliq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Objectivation à l’égard d’un sujet dépend de la qualité de la méthod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Distanciation et familiarité de l’obj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Validité des données via la comparaison et la confrontation avec les acteu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cc3300"/>
                </a:solidFill>
                <a:latin typeface="Garamond"/>
              </a:rPr>
              <a:t>Herbert BLUMER</a:t>
            </a:r>
            <a:r>
              <a:rPr b="0" lang="fr-BE" sz="4000" spc="-1" strike="noStrike">
                <a:solidFill>
                  <a:srgbClr val="cc3300"/>
                </a:solidFill>
                <a:latin typeface="Garamond"/>
              </a:rPr>
              <a:t> (1901-1987)</a:t>
            </a:r>
            <a:br>
              <a:rPr sz="4000"/>
            </a:br>
            <a:r>
              <a:rPr b="0" lang="fr-BE" sz="4000" spc="-1" strike="noStrike">
                <a:solidFill>
                  <a:srgbClr val="cc3300"/>
                </a:solidFill>
                <a:latin typeface="Garamond"/>
              </a:rPr>
              <a:t>« Interactionnisme symbolique »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Réaction à Durkheim et à Merton. Les acteurs sociaux ne subissent pas les faits sociaux mais les produisent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Les acteurs sociaux interprètent leur monde et le construisent dans les interactions de la vie ordinaire. Retour à l’approche compréhensiv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10:08:08Z</dcterms:created>
  <dc:creator>PIROTTE</dc:creator>
  <dc:description/>
  <dc:language>en-US</dc:language>
  <cp:lastModifiedBy>Sophie</cp:lastModifiedBy>
  <dcterms:modified xsi:type="dcterms:W3CDTF">2006-10-06T11:27:20Z</dcterms:modified>
  <cp:revision>6</cp:revision>
  <dc:subject/>
  <dc:title>Anthropologie culturelle  Nord-américaine</dc:title>
</cp:coreProperties>
</file>